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0.png" ContentType="image/png"/>
  <Override PartName="/ppt/media/image3.png" ContentType="image/png"/>
  <Override PartName="/ppt/media/image18.gif" ContentType="image/gif"/>
  <Override PartName="/ppt/media/image21.png" ContentType="image/png"/>
  <Override PartName="/ppt/media/image19.png" ContentType="image/png"/>
  <Override PartName="/ppt/media/image17.wmf" ContentType="image/x-wmf"/>
  <Override PartName="/ppt/media/image15.jpeg" ContentType="image/jpeg"/>
  <Override PartName="/ppt/media/image16.wmf" ContentType="image/x-wmf"/>
  <Override PartName="/ppt/media/image1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C0B9-9490-4CC5-98E6-F22CA65053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Dat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Perio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Topic: Graphing Absolute Value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-Up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following system of inequalities by graph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&lt; 2x + 4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x – 2y ≥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nequality represents the graph bel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&lt; 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≥ x +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≤ 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&gt; x +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Dat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Perio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Topic: Graphing Absolute Value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-U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following system of inequalities by graph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&lt; 2x + 4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x – 2y ≥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nequality represents the graph bel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&lt; x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≥ x +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≤ x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&gt; x +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Movem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special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minus inside the absolute value, you move to the right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 - 2 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addition inside the absolute value, you move to the left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 + 2 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izontal Mov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special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minus inside the absolute value, you move to the right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 - 2 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addition inside the absolute value, you move to the left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 + 2 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- 5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+ 6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- 5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+ 6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+ 4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- 1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+ 4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- 1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y = │x - 4 │+ 5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y = │x - 4 │+ 5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y = -│x - 2 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y = -│x - 2 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-│x 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rule, but now it makes it look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ent-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-│x 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rule, but now it makes it look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-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actice Time!!!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lgebra Aerobic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 y = │x - 1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 y = │x +3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) y = │x │ +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) y = │x│ -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) y = │x + 3│ + 3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6) y = │x - 1│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) y = -│x - 6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) y = -│x │-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9) │x│+ y =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) y = -│x + 1│ - 1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actice Time!!!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ebra Aerobic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) y = │x - 1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) y = │x +3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 y = │x │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) y = │x│ 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) y = │x + 3│ + 3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) y = │x - 1│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) y = -│x - 6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) y = -│x │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) │x│+ y = 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) y = -│x + 1│ - 1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x Algebra Aerob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 - 4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 + 5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 │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-│x + 2│ -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-│x - 7│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x + 3y ≤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≥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 ≥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≥ -3x -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x Algebra Aerob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 - 4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 + 5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 │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-│x + 2│ -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-│x - 7│ +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 + 3y ≤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≥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≥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≥ -3x 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-Learning Assignment #5 Revie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-Learning Assignment #5 Revi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bal Comprehension Analy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unctions y = │x │ and y = │x - 3 │ together on the sam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unctions y = │x │ and y = │x │- 3 on the sam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unctions y = │x │ and y = - │x │ together on a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effect does the negative sign have on the graph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 Comprehension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the functions y = │x │ and y = │x - 3 │ together on the sam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the functions y = │x │ and y = │x │- 3 on the sam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the functions y = │x │ and y = - │x │ together on a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 does the negative sign have on the graph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ap-up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ke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vocabulary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-- Reminder 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y for Exam #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Linear Inequalities, Systems of Inequalities, &amp; Graphing Absolute Value Equati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-u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key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vocabular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- Reminder 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y for Exam #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inear Inequalities, Systems of Inequalities, &amp; Graphing Absolute Value Equ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iz #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iz #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ing Absolute Value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I make one of those V graph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ng Absolute Value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I make one of those V 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transform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on: shifts the parent function graph horizontally and ver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: it creates a mirror image of the parent-function graph across the line of refle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transform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on: shifts the parent function graph horizontally and ver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: it creates a mirror image of the parent-function graph across the line of refle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arent Function y = │x 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rent Function y = │x 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tical Movem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minus outside the absolute value, you move down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│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addition outside the absolute value, you move up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│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Mov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minus outside the absolute value, you move down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│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addition outside the absolute value, you move up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│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 - 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 -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 +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 +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 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CB55-1983-4D3D-9FE9-777A3061A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8733-3C8F-4203-A2F3-3E2E3E16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71E8-D9E1-4B22-BA8D-16A13E7F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F32E-CE10-4720-BAB5-B8971A669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DFA0-0A7D-4759-B704-01A363CD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F3BA-412D-4A2A-B523-4B690427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106F-66C0-43A7-9D1E-85F2E4C2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0F2F-8C26-4554-AE15-5CF3FD3E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4493-DA41-4F15-8F86-642B39D8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889F-ED29-47D5-AB82-C2EDAB0A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B14D-1CDE-44E0-8A16-1066DACF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E9A4-151D-4A5A-A88A-EEDE9BC6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523E-A43C-4D12-AAC7-F63744DA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E26D-35F1-4258-9650-3BA3C1C9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7DDD-B2E5-4DD1-BC0C-DAA1D1CA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8973-CAF6-4871-9E8B-A9A289DCB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9E28-4391-45A2-A4BD-42C314CE8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D013-EF59-44A1-B4C9-B0CA6646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5C37-3DCD-4886-93FC-0008FA54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6B92-ED91-47AE-AC12-808F954F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DD09-B15A-4D9A-B6AC-EB87353F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7CB8-03F0-4D4A-BF59-387C4A0F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63A6-4B38-4DE8-948F-128F2190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75B3-B43B-4CE2-8DDB-5F8C5826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8661-A49F-46E1-BD58-3A4B7F7608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B30C-3EC8-4D2F-B2D1-49C071DB94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1.gi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th12.vln.dreamhosters.com/images/math12.vln.dreamhosters.com/1/16/F(x)_%253D_-absolute_x.jpg&amp;imgrefurl=http://math12.vln.dreamhosters.com/wiki/Polynomic_Functions&amp;usg=__01xGfS9cAeUdBo2sUga4zfy0eZY=&amp;h=259&amp;w=576&amp;sz=18&amp;hl=en&amp;start=13&amp;zoom=1&amp;um=1&amp;itbs=1&amp;tbnid=0GX4kbien9YOvM:&amp;tbnh=60&amp;tbnw=134&amp;prev=/images%3Fq%3Dnegative%2Babsolute%2Bvalue%2Bfunction%2Bgraph%26um%3D1%26hl%3Den%26safe%3Dactive%26sa%3DN%26ndsp%3D20%26tbs%3Disch:1&amp;ei=bzhdTduPLMWblgeI6LDYC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Name: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       Date: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       Period:</a:t>
            </a:r>
            <a:br>
              <a:rPr sz="20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</a:t>
            </a: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Topic: </a:t>
            </a:r>
            <a:r>
              <a:rPr b="1" lang="en-US" sz="3200" spc="-1" strike="noStrike" u="sng">
                <a:solidFill>
                  <a:srgbClr val="330033"/>
                </a:solidFill>
                <a:uFillTx/>
                <a:latin typeface="Times New Roman"/>
              </a:rPr>
              <a:t>Graphing Absolute Value Equation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arm-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ve the following system of inequalities by graph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&lt; 2x + 4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3x – 2y ≥ 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nequality represents the graph bel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&lt; x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≥ x +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≤ x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&gt; x +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952880" y="4302000"/>
          <a:ext cx="3581640" cy="2560680"/>
        </p:xfrm>
        <a:graphic>
          <a:graphicData uri="http://schemas.openxmlformats.org/drawingml/2006/table">
            <a:tbl>
              <a:tblPr/>
              <a:tblGrid>
                <a:gridCol w="358920"/>
                <a:gridCol w="357120"/>
                <a:gridCol w="358920"/>
                <a:gridCol w="357120"/>
                <a:gridCol w="358920"/>
                <a:gridCol w="358560"/>
                <a:gridCol w="357120"/>
                <a:gridCol w="358920"/>
                <a:gridCol w="357120"/>
                <a:gridCol w="358920"/>
              </a:tblGrid>
              <a:tr h="365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</a:tbl>
          </a:graphicData>
        </a:graphic>
      </p:graphicFrame>
      <p:cxnSp>
        <p:nvCxnSpPr>
          <p:cNvPr id="107" name="Straight Arrow Connector 6"/>
          <p:cNvCxnSpPr/>
          <p:nvPr/>
        </p:nvCxnSpPr>
        <p:spPr>
          <a:xfrm>
            <a:off x="6400440" y="4267080"/>
            <a:ext cx="1080" cy="2743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8" name="Straight Arrow Connector 10"/>
          <p:cNvCxnSpPr/>
          <p:nvPr/>
        </p:nvCxnSpPr>
        <p:spPr>
          <a:xfrm flipH="1">
            <a:off x="4876200" y="5790960"/>
            <a:ext cx="37342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9" name="Straight Arrow Connector 27"/>
          <p:cNvCxnSpPr/>
          <p:nvPr/>
        </p:nvCxnSpPr>
        <p:spPr>
          <a:xfrm flipV="1">
            <a:off x="4952520" y="4191120"/>
            <a:ext cx="2591640" cy="2667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rizontal Movement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value special 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minus inside the absolute value, you move to the right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- 2 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addition inside the absolute value, you move to the left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+ 2 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C:\Documents and Settings\275602\Local Settings\Temporary Internet Files\Content.IE5\8CZ25BBI\MC900434403[1].wmf"/>
          <p:cNvPicPr/>
          <p:nvPr/>
        </p:nvPicPr>
        <p:blipFill>
          <a:blip r:embed="rId1"/>
          <a:stretch/>
        </p:blipFill>
        <p:spPr>
          <a:xfrm>
            <a:off x="7848720" y="457200"/>
            <a:ext cx="604800" cy="8478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ts Practice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- 5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+ 6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Your Turn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+ 4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- 1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about y =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│x - 4 │+ 5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2" name="Picture 3" descr="C:\Users\user\AppData\Local\Microsoft\Windows\Temporary Internet Files\Content.IE5\RKD2LOJ0\MM900282747[1].gif"/>
          <p:cNvPicPr/>
          <p:nvPr/>
        </p:nvPicPr>
        <p:blipFill>
          <a:blip r:embed="rId1"/>
          <a:stretch/>
        </p:blipFill>
        <p:spPr>
          <a:xfrm rot="21299400">
            <a:off x="7391520" y="51814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5120" y="2743200"/>
            <a:ext cx="5867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about y =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-│x - 2 │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5" name="Picture 2" descr="C:\Users\user\AppData\Local\Microsoft\Windows\Temporary Internet Files\Content.IE5\FMINL040\MC900383550[1].wmf"/>
          <p:cNvPicPr/>
          <p:nvPr/>
        </p:nvPicPr>
        <p:blipFill>
          <a:blip r:embed="rId1"/>
          <a:stretch/>
        </p:blipFill>
        <p:spPr>
          <a:xfrm rot="21028800">
            <a:off x="685440" y="3429000"/>
            <a:ext cx="1425600" cy="3138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C:\Users\user\AppData\Local\Microsoft\Windows\Temporary Internet Files\Content.IE5\RKD2LOJ0\MM900282747[1].gif"/>
          <p:cNvPicPr/>
          <p:nvPr/>
        </p:nvPicPr>
        <p:blipFill>
          <a:blip r:embed="rId2"/>
          <a:stretch/>
        </p:blipFill>
        <p:spPr>
          <a:xfrm>
            <a:off x="7620120" y="1522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Users\user\AppData\Local\Microsoft\Windows\Temporary Internet Files\Content.IE5\NNA2BYPD\MC900293468[1].wmf"/>
          <p:cNvPicPr/>
          <p:nvPr/>
        </p:nvPicPr>
        <p:blipFill>
          <a:blip r:embed="rId3"/>
          <a:stretch/>
        </p:blipFill>
        <p:spPr>
          <a:xfrm>
            <a:off x="685800" y="0"/>
            <a:ext cx="1074600" cy="1371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C:\Users\user\AppData\Local\Microsoft\Windows\Temporary Internet Files\Content.IE5\FMINL040\MC900304311[1].wmf"/>
          <p:cNvPicPr/>
          <p:nvPr/>
        </p:nvPicPr>
        <p:blipFill>
          <a:blip r:embed="rId4"/>
          <a:stretch/>
        </p:blipFill>
        <p:spPr>
          <a:xfrm flipH="1">
            <a:off x="7620120" y="4724280"/>
            <a:ext cx="1295280" cy="180972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y = -│x │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1" name="Picture 2" descr="http://t0.gstatic.com/images?q=tbn:ANd9GcQ2HTiFzrEdIDpgHTabub4GZ2eioCGCh3SeFhpX8LnZrBQw-eIhxSIIAa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828800"/>
            <a:ext cx="5715000" cy="2952720"/>
          </a:xfrm>
          <a:prstGeom prst="rect">
            <a:avLst/>
          </a:prstGeom>
          <a:ln w="0">
            <a:noFill/>
          </a:ln>
        </p:spPr>
      </p:pic>
      <p:sp>
        <p:nvSpPr>
          <p:cNvPr id="162" name="TextBox 4"/>
          <p:cNvSpPr/>
          <p:nvPr/>
        </p:nvSpPr>
        <p:spPr>
          <a:xfrm>
            <a:off x="3982680" y="5715000"/>
            <a:ext cx="46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rule, but now it makes it look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C:\Documents and Settings\275602\Local Settings\Temporary Internet Files\Content.IE5\GUNV34DJ\MC900440412[1].wmf"/>
          <p:cNvPicPr/>
          <p:nvPr/>
        </p:nvPicPr>
        <p:blipFill>
          <a:blip r:embed="rId3"/>
          <a:stretch/>
        </p:blipFill>
        <p:spPr>
          <a:xfrm>
            <a:off x="8001000" y="6176880"/>
            <a:ext cx="839880" cy="6811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"/>
          <p:cNvSpPr/>
          <p:nvPr/>
        </p:nvSpPr>
        <p:spPr>
          <a:xfrm>
            <a:off x="4124520" y="2133720"/>
            <a:ext cx="197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lection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ent-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C:\Users\user\AppData\Local\Microsoft\Windows\Temporary Internet Files\Content.IE5\RKD2LOJ0\MC900440516[1].wmf"/>
          <p:cNvPicPr/>
          <p:nvPr/>
        </p:nvPicPr>
        <p:blipFill>
          <a:blip r:embed="rId4"/>
          <a:stretch/>
        </p:blipFill>
        <p:spPr>
          <a:xfrm>
            <a:off x="7696080" y="2819520"/>
            <a:ext cx="1447920" cy="1828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C:\Users\user\AppData\Local\Microsoft\Windows\Temporary Internet Files\Content.IE5\M5XL5LPK\MM900282742[1].gif"/>
          <p:cNvPicPr/>
          <p:nvPr/>
        </p:nvPicPr>
        <p:blipFill>
          <a:blip r:embed="rId5"/>
          <a:stretch/>
        </p:blipFill>
        <p:spPr>
          <a:xfrm>
            <a:off x="0" y="5105520"/>
            <a:ext cx="1219320" cy="175248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777240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actice Time!!!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lgebra Aerobics!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0" y="1447920"/>
            <a:ext cx="43434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- 1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+3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│ +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│ -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+ 3│ + 3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4572000" y="1371600"/>
            <a:ext cx="45720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- 1│+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) y =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- 6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) y =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│-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)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│+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= -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) y =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+ 1│ - 1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Mix Algebra Aerob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14400" y="1600200"/>
            <a:ext cx="2743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- 4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2120" y="3657600"/>
            <a:ext cx="259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+ 5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057120" y="5715000"/>
            <a:ext cx="244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│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010920" y="1828800"/>
            <a:ext cx="302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+ 2│ -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5853240" y="3733920"/>
            <a:ext cx="292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- 7│ +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846360" y="5257800"/>
            <a:ext cx="22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4x + 3y ≤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6176520" y="51814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 ≥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3813840" y="449568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 ≥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3359160" y="2819520"/>
            <a:ext cx="19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≥ -3x -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e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305920" cy="50292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e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143000" y="1486080"/>
            <a:ext cx="7696080" cy="53719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Home-Learning Assignment #5 Review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e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762120" y="1666800"/>
            <a:ext cx="8153280" cy="51912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erbal Comprehension Analys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144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the functions y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│x │ and y = │x - 3 │ together on the same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effect does the 3 have on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ph the functions y = │x │ and y = │x │- 3 on the same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effect does the 3 have on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ph the functions y = │x │ and y = - │x │ together on a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effect does the negative sign have on the graph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rap-up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key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vocabulary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- Reminder 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for Exam #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inear Inequalities, Systems of Inequalities, &amp; Graphing Absolute Value Equ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Quiz #8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Graphing Absolute Value Equation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I make one of those V grap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0" y="914400"/>
            <a:ext cx="1676520" cy="1828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0" y="5057640"/>
            <a:ext cx="1347840" cy="1800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3"/>
          <a:stretch/>
        </p:blipFill>
        <p:spPr>
          <a:xfrm>
            <a:off x="7391520" y="5105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4"/>
          <a:stretch/>
        </p:blipFill>
        <p:spPr>
          <a:xfrm>
            <a:off x="7000920" y="0"/>
            <a:ext cx="2143080" cy="1600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5"/>
          <a:stretch/>
        </p:blipFill>
        <p:spPr>
          <a:xfrm>
            <a:off x="3429000" y="0"/>
            <a:ext cx="1752480" cy="152388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bsolute value transformation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ocabulary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ans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hifts the parent function graph horizontally and ver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flec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 creates a mirror image of the parent-function graph across the line of refl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arent Function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y = │x │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7" name="Picture 2" descr="http://schoolwires.henry.k12.ga.us/437520715143758627/lib/437520715143758627/absolute_value_function_graph.gif"/>
          <p:cNvPicPr/>
          <p:nvPr/>
        </p:nvPicPr>
        <p:blipFill>
          <a:blip r:embed="rId1"/>
          <a:stretch/>
        </p:blipFill>
        <p:spPr>
          <a:xfrm>
            <a:off x="762120" y="1752480"/>
            <a:ext cx="7816680" cy="4419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C:\Users\user\AppData\Local\Microsoft\Windows\Temporary Internet Files\Content.IE5\NNA2BYPD\MC900446036[1].wmf"/>
          <p:cNvPicPr/>
          <p:nvPr/>
        </p:nvPicPr>
        <p:blipFill>
          <a:blip r:embed="rId2"/>
          <a:stretch/>
        </p:blipFill>
        <p:spPr>
          <a:xfrm>
            <a:off x="7391520" y="5005440"/>
            <a:ext cx="1752480" cy="1852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C:\Users\user\AppData\Local\Microsoft\Windows\Temporary Internet Files\Content.IE5\M5XL5LPK\MC900292252[1].wmf"/>
          <p:cNvPicPr/>
          <p:nvPr/>
        </p:nvPicPr>
        <p:blipFill>
          <a:blip r:embed="rId3"/>
          <a:stretch/>
        </p:blipFill>
        <p:spPr>
          <a:xfrm flipH="1">
            <a:off x="0" y="5124600"/>
            <a:ext cx="1168560" cy="17334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ertical Movement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value 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minus outside the absolute value, you move down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│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addition outside the absolute value, you move up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│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C:\Documents and Settings\275602\Local Settings\Temporary Internet Files\Content.IE5\L9JD6LDM\MC900434411[1].wmf"/>
          <p:cNvPicPr/>
          <p:nvPr/>
        </p:nvPicPr>
        <p:blipFill>
          <a:blip r:embed="rId1"/>
          <a:stretch/>
        </p:blipFill>
        <p:spPr>
          <a:xfrm>
            <a:off x="7162920" y="228600"/>
            <a:ext cx="1041120" cy="11714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ts practice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5238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+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Your turn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21:06:11Z</dcterms:created>
  <dc:creator>Jane Neff</dc:creator>
  <dc:description/>
  <dc:language>en-US</dc:language>
  <cp:lastModifiedBy>LEGION</cp:lastModifiedBy>
  <dcterms:modified xsi:type="dcterms:W3CDTF">2017-07-06T06:35:02Z</dcterms:modified>
  <cp:revision>58</cp:revision>
  <dc:subject/>
  <dc:title>Graphing Absolute Value Equations</dc:title>
</cp:coreProperties>
</file>